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media/image9.jpeg" ContentType="image/jpeg"/>
  <Override PartName="/ppt/media/image7.wmf" ContentType="image/x-wmf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CC1-F7CF-4B9A-B36E-ED9EDF39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D3F-7E7C-45A9-8D11-7A596E2C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48B-2730-45FE-9946-93FAA24A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D13-51FD-4CC8-BC44-0A9C1DEF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601A-D958-44D7-BC68-FA9CC406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94AD-4B58-496B-B2A8-1E10B73B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6E2D-BC58-4763-9848-E6F3EF93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D567-FA0A-4247-9CB2-D2E9B11E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5DCA-84DA-4C50-ABB1-22D2641C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9D35-5DEF-4C14-9282-981CE51E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6880-63ED-4E3E-A4EA-9828C176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AC1-7F4D-4D11-82D4-A35A4CC3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0F80-AEE8-4BA6-A7F6-AE1E5B14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958B-CDEF-4498-8230-E6573626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7A3C-46FD-4AEC-B30D-97D8DBE3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B90A-3A16-42F6-B39E-6DC5BAAD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582A-12C7-4613-A7E3-B02A6C47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E68-6357-4B85-B583-AE9E255A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96A-5F20-4E3F-9B74-9B7E5DD6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0D9-B093-4281-BC8F-D2339CC5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D4B-D8C1-46B9-8F9F-288FB1CB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4D9-9A74-4387-87FC-BD461EDE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817-587B-42C3-A01C-198139ED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3D4-C369-46F5-885F-F057C9E7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3616-13A5-4240-B3AA-3F7A97894D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36B2-06EF-48E6-B1E1-F4AEB90851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30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clear Energ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mentary Parti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in Re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utrons are emitted when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3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 undergoes f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neutrons are then available to trigger fission in other nucle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hain re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uncontrolled, a violent explosion ca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inciple behind the nuclear bomb, where 1 kg of U can release energy equal to about 20 000 tons of T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Ques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 muons the same as electrons, except for their mas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are some particles charged and others neutra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do quarks carry fractional char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determines the masses of fundamental partic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 leptons and quarks have a substructur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in Reaction – Diagra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882800"/>
            <a:ext cx="84582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uclear React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uclear react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system designed to maintain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elf-sustained chain re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production const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K, is defined as the average number of neutrons from each fission event that will cause another fission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ximum value of K from uranium fission is 2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practice, K is less than th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lf-sustained reaction has K =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 Valu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K = 1, the reactor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ain reaction is self-susta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K &lt; 1, the reactor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ubcrit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action dies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K &gt; 1, the reactor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upercrit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un-away chain reaction occ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asic Reactor Desig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el elements consist of enriched uran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oderator materi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elps to slow down the neu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trol rod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bsorb neu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83280" y="2017800"/>
            <a:ext cx="3733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Reactor Design Considerations – Neutron Leakage</a:t>
            </a:r>
            <a:endParaRPr b="0" lang="en-US" sz="3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s (or “leakage”) of neutrons from the co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are not available to cause fission ev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raction lost is a function of the ratio of surface area to vol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reactors have larger percentages l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oo many neutrons are lost, the reactor will not be able to ope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Reactor Design Considerations – Neutron Energies</a:t>
            </a:r>
            <a:endParaRPr b="0" lang="en-US" sz="3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ow neutrons are more likely to cause fission ev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neutrons released in the fission process have energies of about 2 Me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order to sustain the chain reaction, the neutrons must be slowed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oderato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urrounds the fu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isions with the atoms of the moderator slow the neutrons down as some kinetic energy is transfer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modern reactors use heavy water as the mode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Reactor Design Considerations – Neutron Capture</a:t>
            </a:r>
            <a:endParaRPr b="0" lang="en-US" sz="3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utrons may be captured by nuclei that do not undergo fi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commonly, neutrons are captured by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3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ssibility of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3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 capture is lower with slow neu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derator helps minimize the capture of neutrons by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3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Reactor Design Considerations – Power Level Control</a:t>
            </a:r>
            <a:endParaRPr b="0" lang="en-US" sz="3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ethod of control is needed to adjust the value of K to near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K &gt;1, the heat produced in the runaway reaction can melt the reac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ontrol rod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re inserted into the core to control the power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rods are made of materials that are very efficient at absorbing neutr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dmium is an exam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y adjusting the number and position of the control rods, various power levels can be maintain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ized Water Reactor – Diagram 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90720" y="2154240"/>
            <a:ext cx="777240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cesses of Nuclear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ucleus of large mass number splits into two smaller nucle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light nuclei fuse to form a heavier nucle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rge amounts of energy are released in either c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ized Water Reactor – Operation Notes 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type of reactor is commonly used in electric power plants in the 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ssion events in the reactor core supply heat to the water contained in the primary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imary system is a closed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water is maintained at a high pressure to keep it from bo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ot water is pumped through a heat exchan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ized Water Reactor – Operation Note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The heat is transferred to the water contained in a secondary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water is converted into st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eam is used to drive a turbine-generator to create electric p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ter in the secondary system is isolated from the water in the primary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prevents contamination of the secondary water and steam by the radioactive nuclei in the c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actor Safety – Containm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ation exposure, and its potential health risks, are controlled by three levels of contai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or vess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the fuel and radioactive fission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or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s as a second containment structure should the reactor vessel rup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ctor facilities are in remote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actor Safety – Loss of Wa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water flow was interrupted, the nuclear reaction could stop immediate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there could be enough residual heat to build up and melt the fuel el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lten core could also melt through the containment vessel and into the gro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na Syndr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molten core struck ground water, a steam explosion could spread the radioactive material to areas surrounding the power pl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ctors are built with emergency cooling systems that automatically flood the core if coolant is l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actor Safety – Radioactive Materia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osal of waste mater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te material contains long-lived, highly radioactive isoto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t be stored over long periods in ways that protect the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 solution is sealing the waste in waterproof containers and burying them in deep salt m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portation of fuel and was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idents during transportation could expose the public to harmful levels of radi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artment of Energy requires crash tests and manufacturers must demonstrate that their containers will not rupture during high speed coll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uclear Fu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uclear fus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ccurs when two light nuclei combine to form a heavier nucle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ss of the final nucleus is less than the masses of the original nucle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loss of mass is accompanied by a release of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usion in the Su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stars generate energy through fu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n, along with about 90% of other stars, fuses hydrog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stars fuse heavier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conditions must be met before fusion can occur in a st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mperature must be high eno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nsity of the nuclei must be high enough to ensure a high rate of colli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ton-Proton Cyc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30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ton-proton cycle is a series of three nuclear reactions believed to operate in the 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ergy liberated is primarily in the form of gamma rays, positrons and neutrin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uter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may be written as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241960" y="2398680"/>
          <a:ext cx="3765600" cy="29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1960" y="2398680"/>
                    <a:ext cx="3765600" cy="29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usion Reac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ergy releasing fusion reaction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ermonuclear fusion re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great deal of effort is being directed at developing a sustained and controllable thermonuclear re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hermonuclear reactor that can deliver a net power output over a reasonable time interval is not yet a re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dvantages of a Fusion React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expensive fuel sou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ter is the ultimate fuel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deuterium is used as fuel, 0.06 g of it can be extracted from 1 gal of water for about 4 c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atively few radioactive by-products are 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uclear Fis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heavy nucleus splits into two smaller nucle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total mass of the products is less than the original mass of the heavy nucle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observed in 1939 by Otto Hahn and Fritz Strassman following basic studies by Fer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sa Meitner and Otto Frisch soon explained what had happen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iderations for a Fusion React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ton-proton cycle is not feasible for a fusion rea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igh temperature and density required are not suitable for a fusion rea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st promising reactions involve deuterium (D) and tritium (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36840" y="4770360"/>
          <a:ext cx="6605280" cy="17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4770360"/>
                    <a:ext cx="6605280" cy="17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iderations for a Fusion Reactor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uterium is available in almost unlimited quantities in water and is inexpensive to ex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tium is radioactive and must be produced artificial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oulomb repulsion between two charged nuclei must be overcome before they can f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Requirements for Successful Thermonuclear Reactor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temperatu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ed to give nuclei enough energy to overcome Coulomb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se temperatures, the atoms are ionized, forming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sma ion density,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of ions pres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sma confinement tim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ime the interacting ions are maintained at a temperature equal to or greater than that required for the reaction to proceed successfu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awson’s Criteri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son’s criteria states that a net power output in a fusion reactor is possible under the following cond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deuterium-trit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deuterium-deuter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lasma confinement time is still a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gnetic Confinem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magnetic confinement device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okama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wo magnetic fields confine the plasma inside the doughnu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trong magnetic field is produced in the wind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weak magnetic field is produced in the toro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ield lines are helical, spiral around the plasma, and prevent it from touching the wall of the vacuum chamb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343400" y="2476440"/>
            <a:ext cx="480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Fusion Reac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FT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kamak Fusion Test Rea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cet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 ion temperature of 510 million degrees 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values were close to Laws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kamak at Abington, Engl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T fusions per second were achie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urrent Research in Fusion Reac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STX – National Spherical Torus Experi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es a spherical plasma with a hole in the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able to confine the plasma with a high press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R – International Thermonuclear Experimental Rea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international collaboration involving four major fusion programs is working on building this reac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will address remaining technological and scientific issues concerning the feasibility of fusion pow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ther Methods of Creating Fusion Even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ertial laser confin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el is put into the form of a small pel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collapsed by ultrahigh power las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ertial electrostatic confin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vely charged particles are rapidly attracted toward an negatively charged gr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of the positive particles collide and f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ementary Partic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the Greek for “indivisibl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re once thought to the elementary 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om constitu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on, neutron, and 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re viewed as elementary because they are very s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scovery of New Partic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ginning in 1937, many new particles were discovered in experiments involving high-energy colli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acteristically unstable with short life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 300 have been catalog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attern was needed to understand all these new 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ission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ssion of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3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 by a slow (low energy) neu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3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* is an intermediate, short-lived s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sts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1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and Y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ission frag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combinations of X and Y satisfy the requirements of conservation of energy and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57360" y="2971800"/>
          <a:ext cx="71024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7360" y="2971800"/>
                    <a:ext cx="7102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rk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ists recognize that most particles are made up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qu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ptions include photons, electrons and a few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uark model has reduced the array of particles to a manageable f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uark model has successfully predicted new quark combinations that were subsequently found in many experi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undamental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articles in nature are subject to four fundamental fo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ong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magnetic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ak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vitational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ong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responsible for the tight binding of the quarks to form neutrons and prot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responsible for the nuclear force binding the neutrons and the protons together in the nucle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ongest of all the fundamental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short-ran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 than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ectromagnetic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responsible for the binding of atoms and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imes the strength of the strong 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long-range force that decreases in strength as the inverse square of the separation between interacting parti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eak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responsible for instability in certain nucle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responsible for beta dec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hort-ranged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strength is about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imes that of the strong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ientists now believe the weak and electromagnetic forces are two manifestations of a single force,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lectroweak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vitational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amiliar force that holds the planets, stars and galaxie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effect on elementary particles is neglig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ong-range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about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4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imes the strength of the strong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akest of the four fundamental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xplanation of Fo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ces between particles are often described in terms of the actions of field particles or quan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lectromagnetic force, the photon is the field parti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lectromagnetic force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ediat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 carried, by phot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Forces and Mediating Particles </a:t>
            </a:r>
            <a:r>
              <a:rPr b="0" lang="en-US" sz="3000" spc="-1" strike="noStrike">
                <a:solidFill>
                  <a:srgbClr val="333399"/>
                </a:solidFill>
                <a:latin typeface="Verdana"/>
              </a:rPr>
              <a:t>(also see table 30.1)</a:t>
            </a:r>
            <a:endParaRPr b="0" lang="en-US" sz="30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182600" y="2017800"/>
          <a:ext cx="7772400" cy="42368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action (forc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ting Field Parti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82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u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magne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UniversalMath1 BT"/>
                          <a:ea typeface="UniversalMath1 BT"/>
                        </a:rPr>
                        <a:t>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and Z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vitat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vi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aul Adrien Maurice Dirac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02 – 19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mental in understanding anti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ded in the unification of quantum mechanics and rela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ibutions to quantum physics and cosm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bel Prize in 193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410080" y="1855800"/>
            <a:ext cx="319104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tipartic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every particle, there is an antiparti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Dirac’s version of quantum mechanics that incorporated special relativ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ntiparticle has the same mass as the particle, but the opposite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sitron (electron’s antiparticle) was discovered by Anderson in 193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ce then, it has been observed in numerous experi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ctically every known elementary particle has a distinct antiparti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ptions – the photon and the neutral pi particles are their own antipartic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Fission of </a:t>
            </a:r>
            <a:r>
              <a:rPr b="0" lang="en-US" sz="4400" spc="-1" strike="noStrike" baseline="30000">
                <a:solidFill>
                  <a:srgbClr val="333399"/>
                </a:solidFill>
                <a:latin typeface="Verdana"/>
              </a:rPr>
              <a:t>235</a:t>
            </a: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bout 90 different daughter nuclei can be 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neutrons are also produced in each fission ev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ission fragments and the neutrons have a great deal of KE following the ev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57400" y="4332240"/>
          <a:ext cx="6400800" cy="6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332240"/>
                    <a:ext cx="64008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ideki Yukaw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07 – 198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ed the existence of mes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bel Prize in 194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0" y="1855800"/>
            <a:ext cx="419112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s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from a theory to explain the strong nuclear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ckground no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atoms can form a covalent bond by the exchange of electr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electromagnetic interactions, charged particles interact by exchanging a phot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particle was proposed to explain the strong nuclear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as called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e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son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posed particle would have a mass about 200 times that of the 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orts to establish the existence of the particle were done by studying cosmic rays in the 1930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ually discovered multiple 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 meson (called p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ys no role in the strong inter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three varieties of p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s of 139.6 M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s of 135.0 M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ons are very uns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ecays into a muon and an antineutrino with a lifetime of about 2.6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ichard Feynman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320" y="2017800"/>
            <a:ext cx="461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18 – 198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ibutions incl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 on the Manhattan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ion of diagrams to represent particle inter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ory of weak inter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ormation of quantum mechan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erfluid heli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llenger investi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d Nobel Prize in 196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5910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eynman Diagram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raphical representation of the interaction between two parti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ynman diagrams are named for Richard Feynman who developed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eynman Diagram – Two Electr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hoton is the field particle that mediates the intera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hoton transfers energy and momentum from one electron to the o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hoton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irtual phot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can never be detected directly because it is absorbed by the second electron very shortly after being emitted by the first electr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343400" y="2362320"/>
            <a:ext cx="449568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Virtual Phot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xistence of the virtual photon would be expected to violate the law of conservation of energ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, due to the uncertainty principle and its very short lifetime, the photon’s excess energy is less than the uncertainty in its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virtual photon can exist for short time intervals, such tha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ΔE Δ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eynman Diagram – Proton and Neutr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xchange is via the nuclear fo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xistence of the pion is allowed in spite of conservation of energy if this energy is surrendered in a short enough 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sis predicts the rest energy of the pion to be 130 MeV / c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in close agreement with experimental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343400" y="2362320"/>
            <a:ext cx="44956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assification of Partic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broad categ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ified by inter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drons – interact through strong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ptons – interact through weak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quence of Events in Fis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3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 nucleus captures a thermal (slow-moving) neutr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capture results in the formation of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36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*, and the excess energy of this nucleus causes it to undergo violent oscill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36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* nucleus becomes highly elongated, and the force of repulsion between the protons tends to increase the distor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nucleus splits into two fragments, emitting several neutrons in the pro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adr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act through the strong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subclas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s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ay finally into electrons, positrons, neutrinos and phot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er spi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ry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ses equal to or greater than a prot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integer spin val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ay into end products that include a proton (except for the prot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osed of qu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pt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act through weak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have spin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Leptons appear truly element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sub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-like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ientists currently believe only six leptons exist, along with their anti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 and electron neutr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on and its neutr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u and its neutr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Law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number of conservation laws are important in the study of elementary parti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new ones 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of Baryon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of Lepton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Baryon Numb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a baryon is created in a reaction or a decay, an antibaryon is also cre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 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aryon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= +1 for bary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= -1 for antibary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= 0 for all other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m of the baryon numbers before a reaction or a decay must equal the sum of baryon numbers after the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Lepton Numb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three conservation laws, one for each variety of lep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w of Conservation of Electron-Lepton Number states that the sum of electron-lepton numbers before a reaction or a decay must equal the sum of the electron-lepton number after the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ervation of Lepton Number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ing electron-lepton nu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 for the electron and the electron neutr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-1 for the positron and the electron antineutr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 for all other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ilarly, when a process involves muons, muon-lepton number must be conserved and when a process involves tau particles, tau-lepton numbers must be con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on- and tau-lepton numbers are assigned similarly to electron-lepton nu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ange Partic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e particles discovered in the 1950’s were found to exhibit unusual properties in their production and decay and were given the nam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trange partic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culiar features inclu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ways produced in pai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though produced by the strong interaction, they do not decay into particles that interact via the strong interaction, but instead into particles that interact via weak interac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decay much more slowly than particles decaying via strong inter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angenes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explain these unusual properties, a new law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servation of strangeness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as introdu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needed a new quantum number, 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aw of Conservation of Strangeness states that the sum of strangeness numbers before a reaction or a decay must equal the sum of the strangeness numbers after the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ong and electromagnetic interactions obey the law of conservation of strangeness, but the weak interactions do n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bble Chamber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ashed lines represent neutral 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bottom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+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p an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µ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µ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762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urray Gell-Man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9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ed on theoretical studies of subatomic 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bel Prize in 196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010120" y="1905120"/>
            <a:ext cx="3524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quence of Events in Fission – Diagra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320" y="2514600"/>
            <a:ext cx="896616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Eightfold Wa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lassification schemes have been proposed to group particles into famil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schemes are based on spin, baryon number, strangenes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ightfold wa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s a symmetric pattern proposed by Gell-Mann and Ne’em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are many symmetrical patterns that can be develop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atterns of the eightfold way have much in common with the periodic 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ing predicting missing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 Eightfold Way for Bary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exagonal pattern for the eight sp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½ bary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Strangeness vs. charge is plotted on a sloping coordinat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Six of the baryons form a hexagon with the other two particles at its c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50292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 Eightfold Way for Mes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esons with spins of 0 can be plot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angeness vs. charge on a sloping coordinate system is plot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hexagonal pattern emerg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articles and their antiparticles are on opposite sides on the perimeter of the hexag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maining three mesons are at the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68760" y="1981080"/>
            <a:ext cx="4575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rk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drons are complex particles with size and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drons decay into other had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many different had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rks are proposed as the elementary particles that constitute the had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iginally proposed independently by Gell-Mann and Zwei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riginal Quark Mode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ee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 –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 – d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– originally sideways, now str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ociated with each quark is an antiqua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ntiquark has opposite charge, baryon number and strange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riginal Quark Model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rks have fractional electrical char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1/3 e and –2/3 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ordinary matter consists of just u and d qua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bine to form????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riginal Quark Model –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the hadrons at the time of the original proposal were explained by three r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sons consist of one quark and one antiqua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gives them a baryon number of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ryons consist of three qu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ibaryons consist of three antiqu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dditions to the Original Quark Model – Char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other quark was needed to account for some discrepancies between predictions of the model and experimental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m would be conserved in strong and electromagnetic interactions, but not in weak inter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1974, a new meson, the J/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Ψ was discovered that was shown to be a charm quark and charm antiquark pa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dditions – Top and Botto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y led to the need for a more elaborate quark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need led to the proposal of two new qu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– top (or trut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– bottom (or beaut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ed quantum numbers of topness and bottom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quark was found in a Y meson in 197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quark was found in 1995 at Fermila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umbers of Partic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present, physicists believe the “building blocks” of matter are comple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 quarks with their anti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 leptons with their antipart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table 30.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in a Fission Proces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ding energy for heavy nuclei is about 7.2 MeV per nucle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ding energy for intermediate nuclei is about 8.2 MeV per nucle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fore, the fission fragments have less mass than the nucleons in the original nucle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decrease in mass per nucleon appears as released energy in the fission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l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olated qu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st now believe that quarks are permanently confined inside ordinary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solated quarks have been observed experiment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xplanation is a force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lor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or force increases with increasing di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prevents the quarks from becoming isolated partic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lored Quark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or “charge” occurs in red, blue, or g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iquarks have colors of antired, antiblue, or antigre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or obeys the Exclusion Princ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ombination of quarks of each color produces white (or colorles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ryons and mesons are always colorl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rk Structure of a Mes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80" y="2286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green quark is attracted to an antigreen qua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uark – antiquark pair forms a me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ing meson is color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884760" y="2209680"/>
            <a:ext cx="5259240" cy="41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rk Structure of a Bary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rks of different colors attract each 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uark triplet forms a bary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aryon is color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419720" y="2236680"/>
          <a:ext cx="449568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36680"/>
                    <a:ext cx="44956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ntum Chromodynamics (QCD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D gave a new theory of how quarks interact with each other by means of color char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ong force between quarks is often called the color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ong force between quarks is carried b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lu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uons are massless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8 gluons, all with color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 quark emits or absorbs a gluon, its color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Color Charg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ke colors repel and opposite colors attr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colors also attract, but not as strongly as a color and its antico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lor force between color-neutral hadrons is negligible at large sepa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rong color force between the constituent quarks does not exactly cancel at small sepa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sidual strong force is the nuclear force that binds the protons and neutrons to form nucle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QCD Explanation of a Neutron-Proton Interaction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30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quark within the proton and neutron is continually emitting and absorbing virtual glu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creating and annihilating virtual quark-antiquark pai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close enough, these virtual gluons and quarks can be exchanged, producing the strong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952880" y="2195640"/>
            <a:ext cx="419112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eak Inter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eak interaction is an extremely short-ranged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short range implies the mediating particles are very mass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eak interaction is responsible for the decay of c, s, b, and t quarks into u and d qu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responsible for the decay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ptons into elec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eak Interact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eak interaction is very important because it governs the stability of the basic particles of m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eak interaction is not symmetr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symmetrical under mirror ref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symmetrical under charge ex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ectroweak Theor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lectroweak theor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unifies electromagnetic and weak inter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heory postulates that the weak and electromagnetic interactions have the strength at very high particle energ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ed as two different manifestations of a single inte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stimate of the energy rele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 a total of 240 nucle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eases about 1 MeV per nucle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.2 MeV – 7.2 Me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tal energy released is about 240 M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very large compared to the amount of energy released in chemical proc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Standard Mode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the electroweak theory and QCD form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andard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ingredients of the standard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trong force, mediated by gluons, holds the quarks together to form composite partic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ptons participate only in electromagnetic and weak interac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lectromagnetic force is mediated by phot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eak force is mediated by W and Z bos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Standard Model – Char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8513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diator Mas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 does the photon have no mass while the W and Z bosons do have mas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answered by the Standard Mod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ifference in behavior between low and high energies is calle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ymmetry brea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Higgs bos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has been proposed to account for the ma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rge colliders are necessary to achieve the energy needed to find the Higgs bos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nd Unification Theory (GUT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ilds on the success of the electroweak the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tempted to combine electroweak and strong inter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version considers leptons and quarks as members of the same fam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are able to change into each other by exchanging an appropriate parti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Big Ba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theory of cosmology states that during the first few minutes after the creation of the universe all four interactions were unifi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atter was contained in a quark s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time increased and temperature decreased, the forces broke ap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ing as a radiation dominated universe, as the universe cooled it changed to a matter dominated univer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 Brief History of the Univers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eorge Gam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04 – 196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ong the first to look at the first half hour of the unive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undances of hydrogen and heli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iation should still be present and have an apparent temperature of about 5 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114800" y="1982880"/>
            <a:ext cx="49528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smic Background Radiation (CBR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BR represents the cosmic “glow” left over from the Big Ba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adiation had equal strengths in all direc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urve fits a blackbody a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re are small irregularities that allowed for the formation of galaxies and other object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888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Connection Between Particle Physics and Cosmology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servations of events that occur when two particles collide in an accelerator are essential to understanding the early moments of cosmic his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many common goals between the two fiel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Ques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so little antimatter in the Univer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 neutrinos have mas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do they contribute to the dark mass in the universe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planation of why the expansion of the universe is accelerating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s there a kind of antigravity force acting between widely separated galaxie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s it possible to unify electroweak and strong forc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do quark and leptons form similar but distinct famili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9:18:40Z</dcterms:created>
  <dc:creator>Marilyn Akins</dc:creator>
  <dc:description/>
  <dc:language>en-US</dc:language>
  <cp:lastModifiedBy>DCPS</cp:lastModifiedBy>
  <dcterms:modified xsi:type="dcterms:W3CDTF">2007-04-19T20:41:29Z</dcterms:modified>
  <cp:revision>31</cp:revision>
  <dc:subject/>
  <dc:title>Chapter 30</dc:title>
</cp:coreProperties>
</file>